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03281"/>
        <c:axId val="91059079"/>
      </c:barChart>
      <c:catAx>
        <c:axId val="63003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59079"/>
        <c:crosses val="autoZero"/>
        <c:auto val="1"/>
        <c:lblAlgn val="ctr"/>
        <c:lblOffset val="100"/>
        <c:noMultiLvlLbl val="0"/>
      </c:catAx>
      <c:valAx>
        <c:axId val="91059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03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232-4E88-427A-ABE9-0B6D64DF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61D-745F-40BB-8AFB-B606C8D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A26-ED32-4B00-AB74-DCB92341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497-D176-4848-A827-7016C00A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3E-F2F3-4462-B67F-22991C8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E30-6631-4FC4-A47A-662204E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483-D498-48C2-8D1D-789FB1A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AD7-A030-4723-9D70-FDD61EA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0E6-6472-4FEE-A65B-FC1532E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51A-0A87-4057-BF72-77FCD2F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966-EE03-44EA-AF0D-6FF8370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A58-6C2A-4EC6-AA56-0EE8F42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0B449-233C-47FE-92C3-6339D1E38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