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30246"/>
        <c:axId val="21111244"/>
      </c:barChart>
      <c:catAx>
        <c:axId val="938302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11244"/>
        <c:crosses val="autoZero"/>
        <c:auto val="1"/>
        <c:lblAlgn val="ctr"/>
        <c:lblOffset val="100"/>
        <c:noMultiLvlLbl val="0"/>
      </c:catAx>
      <c:valAx>
        <c:axId val="211112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302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FAF-E863-4A39-99C9-7A093A69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17C-B395-467C-A6EA-05236C20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9B81-CF19-447E-99AE-ACBFE761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A85B-7A0D-48AB-B941-F2E68E30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2FE-88C9-4B3B-999D-A7A03EC6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F2BF-294E-4616-A75D-36CEFD61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5A4-212C-4666-8F56-EE06FA48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022-CBCE-4F7D-A9D4-91A73205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9D5-EE5D-42E7-8C71-CDCA0771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C1FD-5A23-4603-9DF3-D5382710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9AF-5F65-45C8-990C-0E73C683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6599-C214-4513-B12E-BCC5F0F9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2FB67-17E9-464E-8F88-C150A8288F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